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4A4-6F16-409D-BE3E-A27019D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195-7BE1-4982-9F9A-325C0CA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6A7-8611-4BA6-A197-61997D16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B0-31DA-4FF3-B8F4-2D8B699C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6CE-1469-4128-81A1-AF450DCE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0AA-2323-4BA9-8074-D83BE2E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A56-FA1A-4C9F-88F7-3B8DE61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44B-CF4A-4CF2-B5A3-05BD74C5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716-9651-4EEB-9C64-3DC696AE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A8A-52DF-4590-80A7-5B3EF5E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F54-1926-4750-B101-244BC92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3B1-B6E1-45EB-A5DA-5658D57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5353-53AE-47BE-AA84-E1C89978A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forming Liter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7621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equation – an equation involving two or more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723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   Transforming Geometric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90392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   Transform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267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478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6:16:10Z</dcterms:created>
  <dc:creator>Susannah Graham</dc:creator>
  <dc:description/>
  <dc:language>en-US</dc:language>
  <cp:lastModifiedBy>Susannah Graham</cp:lastModifiedBy>
  <dcterms:modified xsi:type="dcterms:W3CDTF">2009-07-30T15:24:37Z</dcterms:modified>
  <cp:revision>2</cp:revision>
  <dc:subject/>
  <dc:title>Lesson 2.6 Formulas</dc:title>
</cp:coreProperties>
</file>